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61DB-31DC-42CA-B8C3-954A9D353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0FF3-70C4-424C-9C1E-9AE7A01CB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066-78F6-469D-9E0A-B39063AA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50FA-3EF7-4A0B-824E-4B9D3B7F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7B4-254B-4D25-9294-773AE2D1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7CD-99F9-4C83-BF37-CFE675FB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C01F-C2B2-4B75-9C66-EE54A3C4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4FED-5F3A-4D94-B6D4-F5785DA9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1DF1-676E-4471-958A-B34BAC7E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0069-A855-4B02-B1CE-7C0A9F5E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FC02-3901-4223-860B-31A71E26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BB09-8266-483B-8BFC-9521AB6C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5DE8-1C7B-40A2-9869-809607BD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AF4-7293-41FE-992F-3E32FAAE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7916-91FF-4553-8FCD-D4586A8A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7FBC-8D91-4E29-9740-96EDC7A5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B194-F5E1-4E1B-B9A9-0C7D5478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B6E0-4BFF-4F2A-BC44-57818752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4033-89A8-4A18-8A2B-8F102049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E7AE3-6D12-41EE-89CA-D9BA3957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5D0E-6029-4781-9005-60E62A19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7B8D9-0E49-4A74-A672-EF1F1ABB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6F62-5883-40EF-A7F8-91CD1D5B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6230-74DD-4819-AA03-D14925E8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B4D-769F-40E9-8BF7-C25218F3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CE3FC-8A1F-4FAD-B0F8-90A954E6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CE60-8031-4E7A-9E51-F6612087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9D74-FC74-40E3-B8F5-442E5865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E2E6-3528-4D8E-9CB3-3226986A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210E1-6097-494A-A8E6-E6E8ABE6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EBFE-C243-44A9-A178-416CD917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5DCC7-AB23-44C3-9D2F-DED947BA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7A8E-878A-4480-A880-5AD7D061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7C83-898B-4EC3-BA8A-D94618E3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6212-093B-422A-879D-57712C06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26A-8C62-4024-9B38-74EBF796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754E1-EA09-4ED8-B809-CF382612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DAC2-F2F1-47EA-8C6C-D9DB88EA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E82C1-0A46-40CF-A640-3F45791E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39E4-D333-4E2D-99FA-D528B4AA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BEA91-45E4-4708-AE6D-ACEA2BB8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F4CB-53BC-4B1E-8F54-6D4DC1FC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6BBF2-55B0-4F5F-A4A7-2F767910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4F926-B011-4026-82F3-881A10D5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129F3-02E0-478A-B489-287E2E7C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C221E-2580-4491-AAE0-47309115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C01-4BCC-48CB-8E80-23E2EB7C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3155-06AD-4847-A83C-2D40F9E7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15913-1F01-4067-98AD-4915D5DC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9DE41-AAD1-415F-A196-3EA02E49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0E470-988B-429C-9FD0-E0AFA46A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D3960-0D5D-4C5A-9C08-3233E9E0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FFDFB-7B5C-42B4-AC88-4882FB31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05012-CD32-4610-A134-3983437D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F1EA8-EE1F-4211-814C-FF6AB4D4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285FD-9EFE-4672-A893-4FF865F8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D121E-0253-4AAD-B85B-91FD2C7B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87B-5B05-4753-BF26-63ED4E1B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943A1-A75E-4C64-B766-55A137F9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F294B-D477-44FB-8801-7FAE5BA7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DF9ED-3594-416F-BB39-D9B93574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566FF-842A-40B5-BF67-5DF7C1F2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3FEC3-DE74-4669-8303-6FBA8076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731F-EB02-4AAF-BA55-02E490EB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648FD-985E-4B6A-A932-8FBE8CD0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6CD5D-FCB0-4892-8FFF-12CF4EAE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C5432-9FAF-4260-A161-65E8D9C6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4E1CA-58F2-4FCC-9200-08E3AC12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CEB-5400-4018-B186-0D6F8C4C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F453C-D62B-4560-9ECB-858D40F0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40272-7360-4575-BB04-62146246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0C776-8A1D-4F60-B4B6-54C81B80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A6161-1009-4A09-A749-23E90070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F2C1C-E65F-4D17-A752-826F3B39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64205-29D3-4C89-92B7-FCEB4E6E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59841-7C2E-4883-9ABD-952DEC12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57604-7311-46DF-A4AC-1190640B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DD1EE-AE4C-40CB-947B-00AA9AC0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E2BB4-B1D8-4519-8CB3-E6EC97A9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02E-074D-40B7-B60E-AC5EF1DB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711A7-9EAA-465A-800D-3B67BC21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60C1A-2B3C-42A8-AACB-D3BF78F8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9DEDC-251B-4FA2-95AB-8079DF34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26AAA-5078-4F55-AE31-F20F1AB2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AAF96-9EEF-4EF8-A1EE-BA2274C2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AF9-F3E9-4707-A9CB-626178E3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A217-074C-4C78-A420-B1581C770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E843-8018-4137-8C59-EB5DBE63AAD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19C2-09BC-4B90-8D74-C67BB6C3C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63A8-0685-40D7-92B3-B14C8AE53D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1C4E-6081-43B2-8F53-E8153EAEE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65CF-521D-4EFC-9010-89873E2121F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8AD3-338A-4017-AE72-96282E56B1A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2800" cy="1841400"/>
          </a:xfrm>
          <a:prstGeom prst="rect">
            <a:avLst/>
          </a:prstGeom>
          <a:ln w="0">
            <a:noFill/>
          </a:ln>
        </p:spPr>
      </p:pic>
      <p:sp>
        <p:nvSpPr>
          <p:cNvPr id="310" name="Moon 7"/>
          <p:cNvSpPr/>
          <p:nvPr/>
        </p:nvSpPr>
        <p:spPr>
          <a:xfrm rot="20112600">
            <a:off x="590400" y="377640"/>
            <a:ext cx="1067040" cy="160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5-Point Star 8"/>
          <p:cNvSpPr/>
          <p:nvPr/>
        </p:nvSpPr>
        <p:spPr>
          <a:xfrm>
            <a:off x="1828800" y="762120"/>
            <a:ext cx="304920" cy="380880"/>
          </a:xfrm>
          <a:custGeom>
            <a:avLst/>
            <a:gdLst>
              <a:gd name="textAreaLeft" fmla="*/ 94320 w 304920"/>
              <a:gd name="textAreaRight" fmla="*/ 210600 w 30492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04800" h="381000">
                <a:moveTo>
                  <a:pt x="0" y="145529"/>
                </a:moveTo>
                <a:lnTo>
                  <a:pt x="116424" y="145530"/>
                </a:lnTo>
                <a:lnTo>
                  <a:pt x="152400" y="0"/>
                </a:lnTo>
                <a:lnTo>
                  <a:pt x="188376" y="145530"/>
                </a:lnTo>
                <a:lnTo>
                  <a:pt x="304800" y="145529"/>
                </a:lnTo>
                <a:lnTo>
                  <a:pt x="210611" y="235470"/>
                </a:lnTo>
                <a:lnTo>
                  <a:pt x="246588" y="380999"/>
                </a:lnTo>
                <a:lnTo>
                  <a:pt x="152400" y="291056"/>
                </a:lnTo>
                <a:lnTo>
                  <a:pt x="58212" y="380999"/>
                </a:lnTo>
                <a:lnTo>
                  <a:pt x="94189" y="23547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5-Point Star 9"/>
          <p:cNvSpPr/>
          <p:nvPr/>
        </p:nvSpPr>
        <p:spPr>
          <a:xfrm>
            <a:off x="533520" y="1905120"/>
            <a:ext cx="380880" cy="457200"/>
          </a:xfrm>
          <a:custGeom>
            <a:avLst/>
            <a:gdLst>
              <a:gd name="textAreaLeft" fmla="*/ 117720 w 380880"/>
              <a:gd name="textAreaRight" fmla="*/ 263160 w 38088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381000" h="457200">
                <a:moveTo>
                  <a:pt x="0" y="174634"/>
                </a:moveTo>
                <a:lnTo>
                  <a:pt x="145530" y="174636"/>
                </a:lnTo>
                <a:lnTo>
                  <a:pt x="190500" y="0"/>
                </a:lnTo>
                <a:lnTo>
                  <a:pt x="235470" y="174636"/>
                </a:lnTo>
                <a:lnTo>
                  <a:pt x="381000" y="174634"/>
                </a:lnTo>
                <a:lnTo>
                  <a:pt x="263263" y="282564"/>
                </a:lnTo>
                <a:lnTo>
                  <a:pt x="308236" y="457198"/>
                </a:lnTo>
                <a:lnTo>
                  <a:pt x="190500" y="349267"/>
                </a:lnTo>
                <a:lnTo>
                  <a:pt x="72764" y="457198"/>
                </a:lnTo>
                <a:lnTo>
                  <a:pt x="117737" y="28256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5-Point Star 10"/>
          <p:cNvSpPr/>
          <p:nvPr/>
        </p:nvSpPr>
        <p:spPr>
          <a:xfrm>
            <a:off x="76320" y="304920"/>
            <a:ext cx="380880" cy="457200"/>
          </a:xfrm>
          <a:custGeom>
            <a:avLst/>
            <a:gdLst>
              <a:gd name="textAreaLeft" fmla="*/ 117720 w 380880"/>
              <a:gd name="textAreaRight" fmla="*/ 263160 w 38088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381000" h="457200">
                <a:moveTo>
                  <a:pt x="0" y="174634"/>
                </a:moveTo>
                <a:lnTo>
                  <a:pt x="145530" y="174636"/>
                </a:lnTo>
                <a:lnTo>
                  <a:pt x="190500" y="0"/>
                </a:lnTo>
                <a:lnTo>
                  <a:pt x="235470" y="174636"/>
                </a:lnTo>
                <a:lnTo>
                  <a:pt x="381000" y="174634"/>
                </a:lnTo>
                <a:lnTo>
                  <a:pt x="263263" y="282564"/>
                </a:lnTo>
                <a:lnTo>
                  <a:pt x="308236" y="457198"/>
                </a:lnTo>
                <a:lnTo>
                  <a:pt x="190500" y="349267"/>
                </a:lnTo>
                <a:lnTo>
                  <a:pt x="72764" y="457198"/>
                </a:lnTo>
                <a:lnTo>
                  <a:pt x="117737" y="28256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2" descr="C:\Documents and Settings\Sarah\Local Settings\Temporary Internet Files\Content.IE5\UHZILPAY\MC900002122[1].wmf"/>
          <p:cNvPicPr/>
          <p:nvPr/>
        </p:nvPicPr>
        <p:blipFill>
          <a:blip r:embed="rId3"/>
          <a:stretch/>
        </p:blipFill>
        <p:spPr>
          <a:xfrm>
            <a:off x="685800" y="3332160"/>
            <a:ext cx="4343400" cy="30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88920" y="0"/>
          <a:ext cx="896616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Straight Connector 6"/>
          <p:cNvSpPr/>
          <p:nvPr/>
        </p:nvSpPr>
        <p:spPr>
          <a:xfrm>
            <a:off x="838080" y="4267080"/>
            <a:ext cx="807732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Down Arrow 7"/>
          <p:cNvSpPr/>
          <p:nvPr/>
        </p:nvSpPr>
        <p:spPr>
          <a:xfrm>
            <a:off x="1905120" y="42670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Moon 6"/>
          <p:cNvSpPr/>
          <p:nvPr/>
        </p:nvSpPr>
        <p:spPr>
          <a:xfrm rot="19915200">
            <a:off x="838080" y="4568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5-Point Star 7"/>
          <p:cNvSpPr/>
          <p:nvPr/>
        </p:nvSpPr>
        <p:spPr>
          <a:xfrm>
            <a:off x="1371600" y="60948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5-Point Star 8"/>
          <p:cNvSpPr/>
          <p:nvPr/>
        </p:nvSpPr>
        <p:spPr>
          <a:xfrm rot="20806800">
            <a:off x="800280" y="1327320"/>
            <a:ext cx="380880" cy="457200"/>
          </a:xfrm>
          <a:custGeom>
            <a:avLst/>
            <a:gdLst>
              <a:gd name="textAreaLeft" fmla="*/ 111240 w 380880"/>
              <a:gd name="textAreaRight" fmla="*/ 269640 w 380880"/>
              <a:gd name="textAreaTop" fmla="*/ 167760 h 457200"/>
              <a:gd name="textAreaBottom" fmla="*/ 357840 h 457200"/>
            </a:gdLst>
            <a:ahLst/>
            <a:rect l="textAreaLeft" t="textAreaTop" r="textAreaRight" b="textAreaBottom"/>
            <a:pathLst>
              <a:path w="381000" h="457200">
                <a:moveTo>
                  <a:pt x="0" y="174634"/>
                </a:moveTo>
                <a:lnTo>
                  <a:pt x="141548" y="167721"/>
                </a:lnTo>
                <a:lnTo>
                  <a:pt x="190500" y="0"/>
                </a:lnTo>
                <a:lnTo>
                  <a:pt x="239452" y="167721"/>
                </a:lnTo>
                <a:lnTo>
                  <a:pt x="381000" y="174634"/>
                </a:lnTo>
                <a:lnTo>
                  <a:pt x="269706" y="285205"/>
                </a:lnTo>
                <a:lnTo>
                  <a:pt x="308236" y="457198"/>
                </a:lnTo>
                <a:lnTo>
                  <a:pt x="190500" y="357815"/>
                </a:lnTo>
                <a:lnTo>
                  <a:pt x="72764" y="457198"/>
                </a:lnTo>
                <a:lnTo>
                  <a:pt x="111294" y="285205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5-Point Star 9"/>
          <p:cNvSpPr/>
          <p:nvPr/>
        </p:nvSpPr>
        <p:spPr>
          <a:xfrm>
            <a:off x="304920" y="380880"/>
            <a:ext cx="304560" cy="457200"/>
          </a:xfrm>
          <a:custGeom>
            <a:avLst/>
            <a:gdLst>
              <a:gd name="textAreaLeft" fmla="*/ 93960 w 304560"/>
              <a:gd name="textAreaRight" fmla="*/ 210600 w 30456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304800" h="457200">
                <a:moveTo>
                  <a:pt x="0" y="174634"/>
                </a:moveTo>
                <a:lnTo>
                  <a:pt x="116424" y="174636"/>
                </a:lnTo>
                <a:lnTo>
                  <a:pt x="152400" y="0"/>
                </a:lnTo>
                <a:lnTo>
                  <a:pt x="188376" y="174636"/>
                </a:lnTo>
                <a:lnTo>
                  <a:pt x="304800" y="174634"/>
                </a:lnTo>
                <a:lnTo>
                  <a:pt x="210611" y="282564"/>
                </a:lnTo>
                <a:lnTo>
                  <a:pt x="246588" y="457198"/>
                </a:lnTo>
                <a:lnTo>
                  <a:pt x="152400" y="349267"/>
                </a:lnTo>
                <a:lnTo>
                  <a:pt x="58212" y="457198"/>
                </a:lnTo>
                <a:lnTo>
                  <a:pt x="94189" y="282564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2280" y="2514600"/>
          <a:ext cx="8991720" cy="2225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3505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lane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warf Plane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ther Obj. That Orbit  The Su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en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pi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lu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tu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aume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ran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keMak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ptu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rcu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diameter must be 2000.0 km or high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must have 20 or less moon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’s orbital period should be 100 earth years or les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’s mean distance from the sun should be 30 AU or les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bital Inclination should be 20 degrees or les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bital Eccentricity should be .15 or bellow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also must orbit the Su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18" name="Object 8"/>
          <p:cNvGraphicFramePr/>
          <p:nvPr/>
        </p:nvGraphicFramePr>
        <p:xfrm>
          <a:off x="-228600" y="223920"/>
          <a:ext cx="9372600" cy="64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223920"/>
                    <a:ext cx="937260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0" y="228600"/>
          <a:ext cx="9144000" cy="62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Straight Connector 8"/>
          <p:cNvSpPr/>
          <p:nvPr/>
        </p:nvSpPr>
        <p:spPr>
          <a:xfrm>
            <a:off x="990720" y="5181480"/>
            <a:ext cx="731520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Down Arrow 9"/>
          <p:cNvSpPr/>
          <p:nvPr/>
        </p:nvSpPr>
        <p:spPr>
          <a:xfrm rot="10800000">
            <a:off x="2514240" y="4114800"/>
            <a:ext cx="560520" cy="105408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0" y="301680"/>
          <a:ext cx="9144000" cy="62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1680"/>
                    <a:ext cx="91440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Straight Connector 6"/>
          <p:cNvSpPr/>
          <p:nvPr/>
        </p:nvSpPr>
        <p:spPr>
          <a:xfrm>
            <a:off x="914400" y="2057400"/>
            <a:ext cx="807732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Down Arrow 7"/>
          <p:cNvSpPr/>
          <p:nvPr/>
        </p:nvSpPr>
        <p:spPr>
          <a:xfrm rot="10800000">
            <a:off x="5714640" y="1142640"/>
            <a:ext cx="407880" cy="9018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88920" y="0"/>
          <a:ext cx="896616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Straight Connector 6"/>
          <p:cNvSpPr/>
          <p:nvPr/>
        </p:nvSpPr>
        <p:spPr>
          <a:xfrm>
            <a:off x="762120" y="4343400"/>
            <a:ext cx="815328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Down Arrow 7"/>
          <p:cNvSpPr/>
          <p:nvPr/>
        </p:nvSpPr>
        <p:spPr>
          <a:xfrm>
            <a:off x="5943600" y="43434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Down Arrow 9"/>
          <p:cNvSpPr/>
          <p:nvPr/>
        </p:nvSpPr>
        <p:spPr>
          <a:xfrm>
            <a:off x="2133720" y="43434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88920" y="0"/>
          <a:ext cx="896616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Straight Connector 6"/>
          <p:cNvSpPr/>
          <p:nvPr/>
        </p:nvSpPr>
        <p:spPr>
          <a:xfrm>
            <a:off x="838080" y="4952880"/>
            <a:ext cx="739152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Down Arrow 9"/>
          <p:cNvSpPr/>
          <p:nvPr/>
        </p:nvSpPr>
        <p:spPr>
          <a:xfrm>
            <a:off x="2133720" y="4952880"/>
            <a:ext cx="255600" cy="673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42" name="Object 4"/>
          <p:cNvGraphicFramePr/>
          <p:nvPr/>
        </p:nvGraphicFramePr>
        <p:xfrm>
          <a:off x="88920" y="0"/>
          <a:ext cx="896616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Straight Connector 6"/>
          <p:cNvSpPr/>
          <p:nvPr/>
        </p:nvSpPr>
        <p:spPr>
          <a:xfrm>
            <a:off x="762120" y="3886200"/>
            <a:ext cx="815328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Down Arrow 7"/>
          <p:cNvSpPr/>
          <p:nvPr/>
        </p:nvSpPr>
        <p:spPr>
          <a:xfrm>
            <a:off x="2209680" y="38862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134360" y="-4336560"/>
            <a:ext cx="53316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47" name="Object 6"/>
          <p:cNvGraphicFramePr/>
          <p:nvPr/>
        </p:nvGraphicFramePr>
        <p:xfrm>
          <a:off x="457200" y="2874960"/>
          <a:ext cx="403848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74960"/>
                    <a:ext cx="40384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13"/>
          <p:cNvGraphicFramePr/>
          <p:nvPr/>
        </p:nvGraphicFramePr>
        <p:xfrm>
          <a:off x="0" y="762120"/>
          <a:ext cx="9144000" cy="625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2120"/>
                    <a:ext cx="91440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Straight Connector 9"/>
          <p:cNvSpPr/>
          <p:nvPr/>
        </p:nvSpPr>
        <p:spPr>
          <a:xfrm>
            <a:off x="914400" y="4191120"/>
            <a:ext cx="8077320" cy="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Down Arrow 11"/>
          <p:cNvSpPr/>
          <p:nvPr/>
        </p:nvSpPr>
        <p:spPr>
          <a:xfrm>
            <a:off x="4191120" y="41911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19" descr="C:\Documents and Settings\Sarah\Local Settings\Temporary Internet Files\Content.IE5\IF10MN0Q\MC900351976[1].wmf"/>
          <p:cNvPicPr/>
          <p:nvPr/>
        </p:nvPicPr>
        <p:blipFill>
          <a:blip r:embed="rId5"/>
          <a:stretch/>
        </p:blipFill>
        <p:spPr>
          <a:xfrm>
            <a:off x="6781680" y="152280"/>
            <a:ext cx="161136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22:26:59Z</dcterms:created>
  <dc:creator>mchamorro</dc:creator>
  <dc:description/>
  <dc:language>en-US</dc:language>
  <cp:lastModifiedBy>Sarah</cp:lastModifiedBy>
  <dcterms:modified xsi:type="dcterms:W3CDTF">2011-02-17T01:26:17Z</dcterms:modified>
  <cp:revision>29</cp:revision>
  <dc:subject/>
  <dc:title>What is a Planet?</dc:title>
</cp:coreProperties>
</file>